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741-84DA-4420-BC25-C2BC2B8B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4B1-7A0E-4B1B-820F-613F04C7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6D4-21C9-4666-AADC-5C8EA116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A03-F5D4-4444-94DB-693589C6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226-B491-418E-B433-EFFB3A3F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9D17-F015-44A5-8BE0-F6A2AEA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0EB7-D7B3-4592-8864-FF6561A1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BDED-B39E-4EAF-8216-629923D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FB49-6667-4B60-B729-CECD72E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16E3-5BD5-4BF1-B2B1-5E5E544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F283-455E-4715-AA64-DF0BAC4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41E-AEDC-4E5D-85B1-EDDE41F6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1585-CD39-4D93-97C2-0A451925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3225-0B37-4F0B-93A8-6EA466E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4A6B-A14D-428A-8179-AE6E8215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AEB3-7D11-40A2-BED0-DA3A1FA2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C86-5940-4D48-B9F2-B9AC4BF6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615-6F3E-40B9-8B58-B5FFE3D1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293-F252-41A7-9C30-74B0D778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312-7C7A-48E2-A13B-028FC326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88F-D43F-4D8B-844C-4CD6E452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E8D-E22C-4467-B02E-1D88243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320-9007-401E-AA78-7893EA8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B2A-B41E-4D3F-A770-358E48FE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ACD5-1C1E-425F-A887-740BFF1788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DC86-FDB3-4652-996A-7DC7686872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708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AND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“ideal system” means NO friction, and no energy “lost” as h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is NEVER destroyed.  It is only “lost” if it becomes un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ideal system (or machine), you get ALL the energy OUT that you had to put IN.  This is called 100% effici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“ideal systems” in real lif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REAL LIFE some energy is ALWAYS changed to “lost” heat because of fricti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AND WORK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 is measured in kilograms [kg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and other FORCES are measured in NEWTONS [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is usually measured in Joules [J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is usually measured in Newton-meters [N m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ENERGY AND WORK ARE EQUAL, A JOULE IS EQUAL TO A NEWTON-MET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STORED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ly means GRAVITATIONAL potential energy, or energy stored because of a position HIGHER than some reference point (like the 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ELASTIC OR SPRING potential energy, like the energy stored in a stretched rubber band, the spring in a wind up toy, or a drawn bow before shooting an 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energy is also stored in batteries, as CHEMICAL potential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ENERGY can also be stored up in chemical bonds, such as in food or f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tremendous amount of potential energy in MASS ITSELF, as Einstein showed with E = m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elf is like VERY concentrated, congeale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potential energy is described by PE = mgh       or mass x gravity x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of motion (kine- means MOTION, like cinema means moving picture or movi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mass times velocity squa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thing is NOT MOVING, is has ZERO KINETIC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“ideal system,” ALL (or 100%) of the WORK you put IN can be changed to 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real machines, most energy is changed to heat.  A car is only about 30% efficient! Only 30% of the gas gets changed to K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rock has a mass of 5 kg, and it is on a hill 2 m high, how much P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 = mgh   [or mass in kg x height in meters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= 10 m/s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in Newtons = mass in kg x gravit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 =    weight in Newtons x height in meter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5 kg (10 m/s/s) (2m) = 100 Joules or 100 J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f a rock has 5 kg of mass and is lifted up a 1 m hill, how much P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f a rock has has 20 N of weight and sits on top of a 2 meter tall box, how much potential energy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y Conservation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concept of conservation and transformation of energy within and between organisms and the environment--such as food chains, food webs, and energy pyram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concept of conservation and transformation of energy to other everyday phenom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 Solu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E = m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5 kg x 10 m/s/s x 1 m = 5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E = weight x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20 N x 2 meters =4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er:  Weight = mass x gravity.  For example, 2 kg of mass X 10 m/s/s = 20 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exampl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mass x velocity squa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3,000 kg car is traveling at 10 m/s, how much K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(3,000 kg) (10 m/s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,500 (100) = 150,000 J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problem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f a 60 kg girl is running at 5 m/s, how much Kinetic energy does she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f the girl stops and sits on a bench to rest, how much kinetic energy does she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solu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KE = 1/2 mv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1/2 (60 kg) (5 m/s)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30 (25) = 75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KE = 1/2 (60 kg) (0 m/s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0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 is not moving, so she has no Kinetic energy while sitting on the bench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and Kinetic, transferred back and forth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20 J of WORK lifting a rock onto a table, how much PE does the rock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rock then falls off the table, how much KINETIC ENERGY does it have just before it hits the flo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id the rock GET the kinetic ener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rock smashes into the floor, where does the energy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E if you double m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d instead lifted a rock with TWICE as much mass, how much more WORK would you have put in to lift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more PE would it have had at the to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more KE at the bott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you lifted more dis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, instead of lifting a rock with twice the mass, you lifted the SAME rock twice the height, how much more WORK would you have d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 lifted a rock with TWICE the MASS a distance TWICE AS FAR?  How much more Work would you have to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ler Co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 roller coaster, at what point is your POTENTIAL ENERGY great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is your KINETIC ENERGY great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gnoring energy “lost” as heat due to friction, what can you say about the TOTAL amount of energy for the whole ride on the roller coas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ler Coaster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go DOWN a hill on the ri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kind of energy is being transferred to what other kin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go UP a hill on the ri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kind of energy is being transferred to what other kin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transferred from the SUN, to you walking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it a baseball, describe the energy changes occurr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throw a ball into the air.  What energy transformations are taking pla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MENTU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omentum is mass X velocit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 = mv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unit is kg m/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aw of Conservation of Moment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mentum in a closed system is ALWAYS CON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mentum “before” an event is equal to momentum “after” an event in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examples are explosions, car crashes, pool balls, &amp; shooting a g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mentum conserv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collision, if one pool ball collides into another one that is at rest, pool ball 1 “shares” some momentum with pool bal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OTAL momentum of both pool balls added together is THE SAME before and after the coll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p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mpulse Momentum Theor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momentum is EQUAL to Im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LSE is equal to IMPACT (or force) times the TIME INTERVAL of the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F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 or 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v) = F 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it better to bend your knees when you jump off a tab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you move your hand backward when catching a fast pit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air bags hel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a karate expert often try to have a SHORT time of impa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only want maximum velocity, such as trying to achieve maximum range of a golf ball, you should hit the ball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a short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a long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 it makes no dif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s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4074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building is on fire and you want to minimize the force of impact on your bones when you jump from the 2nd story window, you sho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and with straight l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and on your feet but bend kn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 drop and roll to maximize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L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sound waves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43040" y="1752120"/>
            <a:ext cx="4521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ELECTROMAGNETIC WA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01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evans</cp:lastModifiedBy>
  <dcterms:modified xsi:type="dcterms:W3CDTF">2003-09-03T14:45:46Z</dcterms:modified>
  <cp:revision>45</cp:revision>
  <dc:subject/>
  <dc:title>Objective 1: Relate the Conservation of Energy to energy transformations</dc:title>
</cp:coreProperties>
</file>